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D73-C8FF-432F-950E-34F09786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13B-274D-43A5-BC97-C88AF7B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E2F-3BE5-4BC8-9980-70190A29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9E2-C0E8-4678-AF7C-CD6FE482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3DB-1BF0-488B-B679-5EAA939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7E6-5008-4556-970E-518AC82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40F-394F-4C1A-93F7-45D75AE6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A66-2FEE-4B75-9D7C-DFC0FD9A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00E-9C4E-4B89-A7FC-2FC70D79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66D-6C35-4597-83D7-CB0BD41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931-B196-4BE9-841B-D83DBC21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AB4-67AB-4CB4-A2F9-7A610B3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ACA9-7282-4CB4-AA61-F05F9750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eb.mit.edu/invent/iow/donovan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13400">
            <a:off x="380520" y="0"/>
            <a:ext cx="4722840" cy="38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ff0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Disposable Diaper</a:t>
            </a:r>
            <a:endParaRPr b="0" lang="en-US" sz="1800" spc="1" strike="noStrike">
              <a:ln w="28440">
                <a:solidFill>
                  <a:srgbClr val="00ff0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42" name=""/>
          <p:cNvSpPr txBox="1"/>
          <p:nvPr/>
        </p:nvSpPr>
        <p:spPr>
          <a:xfrm rot="18946200">
            <a:off x="1523880" y="3276360"/>
            <a:ext cx="4184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ff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Boater"</a:t>
            </a:r>
            <a:endParaRPr b="0" lang="en-US" sz="1800" spc="1" strike="noStrike">
              <a:ln w="28440">
                <a:solidFill>
                  <a:srgbClr val="ff00ff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3680" y="457200"/>
            <a:ext cx="304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Wesam Is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uesday, February 21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arion"/>
          <p:cNvPicPr/>
          <p:nvPr/>
        </p:nvPicPr>
        <p:blipFill>
          <a:blip r:embed="rId1"/>
          <a:stretch/>
        </p:blipFill>
        <p:spPr>
          <a:xfrm>
            <a:off x="7086600" y="160020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62440" y="617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56876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Disposable Diaper,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Feb 23, 2012,  http://web.mit.edu/invent/iow/donov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36840" y="563868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5904000"/>
            <a:ext cx="237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80" y="5751360"/>
            <a:ext cx="237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 and F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-27-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4913280"/>
            <a:ext cx="1387440" cy="1465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rion Donovan didn’t have success right away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Marion"/>
          <p:cNvPicPr/>
          <p:nvPr/>
        </p:nvPicPr>
        <p:blipFill>
          <a:blip r:embed="rId1"/>
          <a:stretch/>
        </p:blipFill>
        <p:spPr>
          <a:xfrm>
            <a:off x="0" y="0"/>
            <a:ext cx="3033720" cy="424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495288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posable Diape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 2012,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donov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921320"/>
            <a:ext cx="3809880" cy="1343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RION DONOVAN (1917-199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isposable di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9480" y="685800"/>
            <a:ext cx="58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rion Donovan created this so her baby could stay dry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4267080"/>
            <a:ext cx="1847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Inven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posable Di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posable Diaper was called “Boa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diaper covers’ debut came at New York in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The diaper was made to keep Marion’s bab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diaper was sold to Keko corp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t was invented i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ventor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arion Dono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Marion Donovan was born in Fort Wayne, In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he had a job as an assistant Beaut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therhood gave Donovan a good reason to revive the innovative instincts of her own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he struggled with her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 didn’t have instant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16Z</dcterms:created>
  <dc:creator>install</dc:creator>
  <dc:description/>
  <dc:language>en-US</dc:language>
  <cp:lastModifiedBy>install</cp:lastModifiedBy>
  <dcterms:modified xsi:type="dcterms:W3CDTF">2012-03-09T15:26:51Z</dcterms:modified>
  <cp:revision>8</cp:revision>
  <dc:subject/>
  <dc:title>Slide 1</dc:title>
</cp:coreProperties>
</file>